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0086-5A4F-463B-A105-3771BACD9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8849-1175-46C2-93DB-F08822E84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BAB5-D78C-4AF1-A54A-05DF3602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8AC9-2486-419F-B021-EBDE74CB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1E5C-EACF-49BA-9DEA-7EFCDD16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82B-FD8D-4B4E-AA36-32FFEAB9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6B29-F75F-4DCB-B4FF-4BFC3260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F4F5-6A8E-48A3-9316-6D172D86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9C2C-6D9C-40A5-92F1-7D887B51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1FE4-39A3-4BAA-B6BB-7BA0A567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BFBA-B792-4B19-B358-CAFBF3B5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2FB1-8F8B-4784-AF7C-43A6FBCF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B7D-2E0F-4AF2-8531-BF4F8A95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8D5-E43E-470F-AABE-C7053A3D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91E7-A1DC-4FCD-BF0F-28EE77D8EC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D0F5-C6B3-4571-976D-D16E7BA10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1488b"/>
                </a:solidFill>
                <a:latin typeface="comic"/>
              </a:rPr>
              <a:t>AutoCAD 2004</a:t>
            </a:r>
            <a:br>
              <a:rPr sz="6600"/>
            </a:br>
            <a:r>
              <a:rPr b="1" lang="en-US" sz="2400" spc="-1" strike="noStrike">
                <a:solidFill>
                  <a:srgbClr val="11488b"/>
                </a:solidFill>
                <a:latin typeface="comic"/>
              </a:rPr>
              <a:t>Lecture 2</a:t>
            </a:r>
            <a:br>
              <a:rPr sz="6600"/>
            </a:br>
            <a:r>
              <a:rPr b="1" lang="en-US" sz="3600" spc="-1" strike="noStrike">
                <a:solidFill>
                  <a:srgbClr val="11488b"/>
                </a:solidFill>
                <a:latin typeface="Arial Black"/>
              </a:rPr>
              <a:t>By</a:t>
            </a:r>
            <a:br>
              <a:rPr sz="6600"/>
            </a:br>
            <a:r>
              <a:rPr b="1" lang="en-U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Haseeb Jamal</a:t>
            </a:r>
            <a:br>
              <a:rPr sz="3200"/>
            </a:br>
            <a:r>
              <a:rPr b="1" lang="en-U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&amp;</a:t>
            </a:r>
            <a:br>
              <a:rPr sz="3200"/>
            </a:br>
            <a:r>
              <a:rPr b="1" lang="en-U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M. Rizwan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Arranged by UET, Computer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135252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E:\Back up\SJ.jpg"/>
          <p:cNvPicPr/>
          <p:nvPr/>
        </p:nvPicPr>
        <p:blipFill>
          <a:blip r:embed="rId3"/>
          <a:stretch/>
        </p:blipFill>
        <p:spPr>
          <a:xfrm>
            <a:off x="8296200" y="0"/>
            <a:ext cx="847800" cy="685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1066680" y="54100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aseebjamal_stn@yahoo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aboutciv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2437-574E-4919-9DAA-DD3921B98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irc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ion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ta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lip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1485-DE8A-4FA0-ABF5-0984E5257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m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E5DF-1969-4C37-94FF-5A57379CA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r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ll Ch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9353-B9A4-4FEA-B90B-2B209CFD9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boutcivil.com/contact-u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CAD Video Tuto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boutcivil.com/autocad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CAD E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aboutcivil.com/autocad-ebooks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5F0B-56DB-4A0F-BE09-F131141DC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Hanif Jamal</dc:creator>
  <dc:description/>
  <dc:language>en-US</dc:language>
  <cp:lastModifiedBy>Hanif Jamal</cp:lastModifiedBy>
  <dcterms:modified xsi:type="dcterms:W3CDTF">2010-02-19T09:12:23Z</dcterms:modified>
  <cp:revision>149</cp:revision>
  <dc:subject/>
  <dc:title>AutoCAD</dc:title>
</cp:coreProperties>
</file>